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7A3B-627E-49BE-BF7F-BBF37B62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1A74-E839-41A4-BB4C-38F214FE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45D5-30CC-49FA-8A9E-55477A83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BA4-B98B-4997-AF3B-0D7CCAF5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BDA7-90B1-4FDC-B1FB-7C9B5EBA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F16D-5C0B-4244-BA21-9ADB447E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F40F-1D68-4C01-9C5B-ACAFE9B1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C30D-B0F9-49EE-A0ED-050DE11B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C8BD-7A4B-4C62-A1BE-F0D75178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7520-E114-4A44-9B25-F7AD0F48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7A4B-233D-4252-8A0A-4030287B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69B8-1162-4719-ACDE-4BC09E51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31F1-3F87-4F24-9143-B5428104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9DA5-36BB-448A-A8C7-5749746B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C2E5-B0D9-4520-AB10-5641F1C8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6BBB-641C-45F9-9E4B-23CF612B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806D-9C44-4B23-A02E-F043FC1F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8909-96B4-46A4-BC86-8426991C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7F11-A6A7-4D7C-8A22-E0EBB509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E588-315B-4A6A-979B-05CADA4E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5115-94FA-4FDA-90FD-FB23D5EE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F646-31EE-43B1-A9FA-9D3ED8F1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DAE4-4E8A-4522-B2D1-CC718B05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F23E-490F-4A61-8128-A5AF3F93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1754-7327-449F-A2A6-22C7B32D2C58}" type="slidenum"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AFF3-D904-45CE-AA71-A610FB0E258A}" type="slidenum"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Helping with Homework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520" y="33523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Putting the Big6</a:t>
            </a:r>
            <a:r>
              <a:rPr b="0" lang="en-US" sz="3200" spc="-1" strike="noStrike">
                <a:solidFill>
                  <a:srgbClr val="212164"/>
                </a:solidFill>
                <a:latin typeface="Symbol"/>
                <a:ea typeface="Symbol"/>
              </a:rPr>
              <a:t></a:t>
            </a: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 in Action at Home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Helping with Homework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5. Synthesi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Ask for a summary in the child’s own words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Ask if the information meets the requirements of the original task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6. Evaluation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Final check. Does it meet the teacher’s expectations? (Product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Was the process efficient? What about the process can help the child in the future? (Process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Helping with Homework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elp children think about what they need to do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ncourage independence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elp the child assume responsibility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Remember that the child is the thinker and doer. The parent is the coach on the sideline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Bibliography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Eisenberg, Michael B.; Berkowitz, Robert E. (1996). 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Helping with Homework: A Parent's Guide to Information Problem-Solving.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Syracuse, NY: ERIC Clearinghouse on Information and Technology. Available: Linworth Publishing, Inc. ED418699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44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hat is the Big6</a:t>
            </a:r>
            <a:r>
              <a:rPr b="0" lang="en-US" sz="4400" spc="-1" strike="noStrike">
                <a:solidFill>
                  <a:srgbClr val="212164"/>
                </a:solidFill>
                <a:latin typeface="Symbol"/>
                <a:ea typeface="Symbol"/>
              </a:rPr>
              <a:t>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Research Model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t is a process model of how people solve information problem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People use these steps every day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ur students will be using the Big6</a:t>
            </a:r>
            <a:r>
              <a:rPr b="0" lang="en-US" sz="3200" spc="-1" strike="noStrike">
                <a:solidFill>
                  <a:srgbClr val="212164"/>
                </a:solidFill>
                <a:latin typeface="Symbol"/>
                <a:ea typeface="Symbol"/>
              </a:rPr>
              <a:t>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process model at school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Parents can use it as a guide to helping students with homework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Big6</a:t>
            </a:r>
            <a:r>
              <a:rPr b="0" lang="en-US" sz="4400" spc="-1" strike="noStrike">
                <a:solidFill>
                  <a:srgbClr val="212164"/>
                </a:solidFill>
                <a:latin typeface="Symbol"/>
                <a:ea typeface="Symbol"/>
              </a:rPr>
              <a:t>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Step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ask Definition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do I need to do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What types of information do I need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12164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nformation Seeking Strategie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What are possible sources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Which are the best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Big6</a:t>
            </a:r>
            <a:r>
              <a:rPr b="0" lang="en-US" sz="4400" spc="-1" strike="noStrike">
                <a:solidFill>
                  <a:srgbClr val="212164"/>
                </a:solidFill>
                <a:latin typeface="Symbol"/>
                <a:ea typeface="Symbol"/>
              </a:rPr>
              <a:t>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Step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3. Location and Acces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44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Where is each source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44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Where is the information in each source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44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4. Use of Information - Read, Think, Write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44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How can I best use each source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44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information in each source is useful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44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How can I take notes using the Trash &amp; Treasure method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Big6</a:t>
            </a:r>
            <a:r>
              <a:rPr b="1" lang="en-US" sz="4400" spc="-1" strike="noStrike">
                <a:solidFill>
                  <a:srgbClr val="212164"/>
                </a:solidFill>
                <a:latin typeface="ヒラギノ角ゴ Pro W3"/>
              </a:rPr>
              <a:t>_x0014__x0014__x0014_</a:t>
            </a:r>
            <a:r>
              <a:rPr b="0" lang="en-US" sz="4400" spc="-1" strike="noStrike">
                <a:solidFill>
                  <a:srgbClr val="212164"/>
                </a:solidFill>
                <a:latin typeface="Symbol"/>
                <a:ea typeface="Symbol"/>
              </a:rPr>
              <a:t>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Step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5. Synthesi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507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How can I organize all the information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507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How can I present the result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507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6. Evaluation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507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How did I do? Did I do my best? (Product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507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How can I do things better in the future? (Process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507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507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Helping with Homework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parent is the coach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student is the thinker and do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Helping with Homework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ask Definition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Have your child explain the assignment in his own words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nformation Seeking Strategie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Talk about possible resources for the assignment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Helping with Homework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0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3. Location and Acces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90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Help your child find useful resources. (Remember the index, table of contents, and headings for books.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90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Supervise use of the Internet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90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Guide their search strategies online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90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Help children evaluate websites for accuracy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90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90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Helping with Homework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4. Use of Information - Read, Think, Write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 Discuss what information is useful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 Help the child decide how to use the information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 Encourage Trash &amp; Treasure note taking, if notes are needed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01:50:44Z</dcterms:created>
  <dc:creator>ccsd181 ccsd181</dc:creator>
  <dc:description/>
  <dc:language>en-US</dc:language>
  <cp:lastModifiedBy>ccsd181 ccsd181</cp:lastModifiedBy>
  <dcterms:modified xsi:type="dcterms:W3CDTF">2007-07-16T03:51:25Z</dcterms:modified>
  <cp:revision>6</cp:revision>
  <dc:subject/>
  <dc:title>Helping with Homework</dc:title>
</cp:coreProperties>
</file>